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0.jpeg" ContentType="image/jpeg"/>
  <Override PartName="/ppt/media/image15.jpeg" ContentType="image/jpe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EAE88-EC65-4487-B371-9DCE64C1E78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17C2B-CE7A-44F8-A9B3-C6F849BFA0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0113-7FCB-40D2-87A7-7D252C5D3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FF88-6335-4F16-A773-728C1B9C0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29DDDC-1F31-4362-BFE6-B50E58D5C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AA8E6B-AE01-40BD-A4A2-E32C51BB8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1D7E14-8327-4FB0-A1F4-B707D818C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1F45DB-2A3F-4BA0-B313-0EA9D968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3CC98B-23DA-404B-97D5-9EC9D936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54C841-0316-4918-BB4C-8BFCD034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C0A398-FAD0-4FCB-9AF3-61DA0DA45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9E08A6-0487-42BA-AEA6-309E505FE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1645FD-3DAC-45F0-8C2A-2777D3F75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9363CE-4831-4B11-9BBC-A86FC353B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1CF0-BBA0-436A-ADA7-679764CE6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800E98-8F41-45AE-A2EF-5B7B25874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C17A7C-8AB2-40C4-ABA9-83BC8791D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BD7759-129C-4CEB-ACEA-6D12B227F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28836A-BF6C-47F2-B3F7-05323D80B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301857-8FCB-4838-9F35-8612D2257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0D62D5-B6FF-4047-AE71-3D66C5A5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1F3AA5-834B-4EF5-9F95-BDD0038E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A6153E-1659-4658-BB04-C395BEA5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B681A3-A091-4187-8DB5-671C9D346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1E4782-3EF8-4C1B-9B09-09F35DB63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A9B1-2E81-44DD-B2AA-C88ADBC3F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2D4DC4-D9BA-4540-ACD5-4929B9811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F650AD-EEBD-422A-9F6F-E135A2AE5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5BF5CB-072C-43FD-B2C5-DB4A069F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CF7CEC-EEB7-436A-AACC-28F87F071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74B655-76B7-4908-A180-D99DDEA3E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514B12-4C2F-455B-81FE-4F8B4EE2E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AA200F-C499-4FAA-B3B7-DBF2F9B85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7868A9-AA03-434E-A8B5-CC4ADA14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8CFA27-7C31-49EE-8D2D-5CA58FC6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F99FC6-135A-45EC-9DE3-10838CFC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67E0C-A83F-4143-BDD5-7AE97F925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3DA38E-8A74-4A70-BE0E-1F5F97D40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B0FDE9-B493-4D17-ADC0-75CF956F8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6C7515-C4F2-4CBE-AC3D-6B1DDDDC4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44F1D5-A62B-4B42-8118-41EFF617D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F79F2B-8B04-4304-94FD-49FCBB7A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9C11B5-940D-4C6D-A69A-548BF0501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491052-AD51-4E9E-805D-7172FAB58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2B5ECF-7043-44C8-81F1-8F0123AB7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F5E425-7D55-4595-8D55-6105FF281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D860BA-5560-44AD-BB69-6635B6BE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374A8-FBF1-45BB-9DAF-88D4A2351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67725E-F9DD-48FD-8162-18ECFE30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620509-D62E-46D0-BE16-E940DC99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539FFD-EA11-4C50-9A17-DD17F7AB0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FBC67C-B9D1-4F58-BF39-189B1226C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2E3307-2236-4633-A6A3-873E92235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0108E-1917-4F58-A80C-1F55760DE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DAFE6-BA46-4A72-BF1B-6E94F04FF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7B73D-9A0E-445E-8922-AE8DFEDA4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439C4-E1AC-4134-B3BC-CCB7F643D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F7F0B-D898-4F6C-9440-389CB99B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1FB7-755C-4760-9D77-0ED8C7B4D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36B8E-8705-4DC1-BC91-E2854113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74A81-9A9B-48CD-8C02-37573F1C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962F5-D692-4F71-A600-CDD2F3FAC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6476C-510D-4CE4-B35B-D76F588DB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23602-1D1A-4D72-82EC-AB757D362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6FC34-4FF7-4B9E-B0FB-3621E8903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4304B-20E8-4F87-8888-30126FF4F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7B99A-4E77-4DAA-B299-615B57CD5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28508-FA48-42FC-903C-9F787682E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8C639-3616-436E-9AE8-D414EE1C7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D31A-0E4E-4695-BCBC-DE666DD82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8EC20-4C15-462B-AF07-25EFAD08E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23B3F-D225-4904-BFAD-68C5D200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AA049-648B-4240-A7D6-2169EECC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AB1E3-09CE-4693-9D9A-9106B3EB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5CA7D-910C-477A-80B6-A5D198C6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D9883-6914-4802-B4E2-E07871F59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0FCB0-168C-4594-8C27-9EB00F5AA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1488F-BB10-4216-AE3C-9E01579F9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A3FB5-D64B-4C1B-AB56-45B0F49E2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0F851-FA5F-400C-945B-BD4D8B739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D6F6-9B2E-44CC-9C23-7BCF947D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85C07-A0EE-44CC-AA62-021C89651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F2070-12B3-4400-87F7-9E25BA579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26AB7-6D21-46FB-AEAE-0DBBAC802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73EB1-799D-461F-983B-F7D50E25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C80E8-7E2B-4061-8201-A23CA648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469CE-D3E9-4AA5-B9A4-D0923AF4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8EFFD-0F5D-41D9-99D2-742991818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89400-D207-4EA4-BF55-3D23C2171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7064A-A91E-4B82-A45F-40262E3CD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B54C8-7CDC-4F84-B457-81A643DE4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12A0-88ED-4C26-8BC6-8C6728D64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F9B21-CDAE-44CE-85A2-01F101F1A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B6FBD-F0D6-4E04-825E-4ADFD68D7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B9296-6697-4F1F-9C6E-E22940035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CBC93-8490-4C38-BBF9-6B9581575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FC675-D849-4304-B939-6FD182226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3F280-074B-413C-A04E-86510AB9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8B532-4D29-4271-A2E0-498EA42B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70CC3-1285-4805-A87D-7E356B4F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DDABA-ACBC-4748-B88C-E875A7A5E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4D1B4-ED8C-42EC-836F-F9FA98B23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8ACE-01C4-447F-A0BE-B738EF458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D7465-BC9E-428C-8030-5FBF6195B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1BB24D-09F4-4E56-A991-9E8CECF43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3EA16-56BC-458B-AE2B-8C1176727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DC858-E84D-49F3-93FB-404D5FF2E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86473-51E5-4C60-BC6E-7DEA7ADD2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46222F-59AA-47B8-B2E1-452A85A1D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78F0C-FD75-4844-9DB8-CB1CF1739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ADCFD0-ACBC-422E-99E8-0CBE6A52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65C9C-2531-4F99-96C3-ACA0FF53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DFB4C-82AB-47E7-B18A-00050CAA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EE0B-0CB7-4BD5-A96D-ACF59235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527E8-1A3E-424C-993F-7982EEACA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7B0BA-D536-4BB0-A588-79EFB2BCE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D1118-0572-4959-8DE7-AE13BC4B1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E51245-4BB0-4A45-A2D7-C569EC8AB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C473FB-0235-4BDF-9607-B264F43A7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FE0B14-ACDF-4C40-B3E7-7041FCF11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DD537A-00C2-4BB0-BB76-F1AF12685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71C66-D63B-4E1C-8A5E-7CD08D87A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07EA7-5E6A-43EC-855D-49FCBEBF8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9098F-608E-49D9-80CA-BCB1EBAA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4FB6-FE7C-4770-8465-35779461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254D1-99C0-4DAB-ACCB-4C9FEC11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C5B0D-A3E6-43FD-937E-E917B46D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DBD98-3E73-491C-A240-0A4CCC358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0E293-E5BB-41A6-BDF9-288319B19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238B1-B59A-4BFC-946C-9E8FA6B6E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C75351-8C8C-40AC-91D0-A2E599A9D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39AC4-784A-4C9F-8AE5-D6135C219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C92467-681C-4A47-B7A1-30905F1F0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A41D9A-1A0D-4BD6-9840-33AC96C72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4F664F-E788-456A-BA89-3EB5EB920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4230-7424-4E1E-A106-124CBE42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980F5F-4233-4100-9743-8DC4C10F0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918FF-C2B0-4D18-AAE7-C0739673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040874-DE6E-4920-87EA-D790B8BF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09AAB4-BCEF-4989-BBA9-E3412748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FD2065-E9F5-4FE7-991F-677973067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A0EB16-B69E-483C-B656-8EDAF939B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39BE7E-CA16-4910-92A6-BBDA16DE7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E1FD07-0CE9-4FE2-9513-333208AE6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8A193B-8BBC-4BFA-95D0-39B3829E4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8F30ED-21E6-4923-A9D6-B38A41710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4F830-F6A4-4DC2-9526-9B73D8DD0AD9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C2C63-8EE7-4F90-942A-822B45212861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B9049-CF8F-469C-830C-6B5CD75A00FA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FD6BA-CFEF-4467-8397-BDC313FBB891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C5F61-3E88-4559-8454-EAE85234F2E3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7E95D-F71C-44CE-B86D-8AC693BA042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7D418-3E76-4D01-977E-02ABE27628D2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C16F9-C5EA-4E1D-8A45-592049F8C780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D8305-F505-47D0-8E92-CDE05EEE24F2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D5019-2367-469E-BAEE-BBFEA0FBF84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516D5-ED08-4F60-BF31-760C7A29063B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1DE6C-6DDC-4BE5-9B9D-BAC685EF7210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4" descr="07"/>
          <p:cNvPicPr/>
          <p:nvPr/>
        </p:nvPicPr>
        <p:blipFill>
          <a:blip r:embed="rId1"/>
          <a:srcRect l="15311" t="0" r="0" b="0"/>
          <a:stretch/>
        </p:blipFill>
        <p:spPr>
          <a:xfrm>
            <a:off x="468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999800" y="92844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0066"/>
                </a:solidFill>
                <a:latin typeface="Ampir Deco"/>
              </a:rPr>
              <a:t>Основы финансовой грамотности</a:t>
            </a:r>
            <a:br>
              <a:rPr sz="3000"/>
            </a:br>
            <a:br>
              <a:rPr sz="3000"/>
            </a:br>
            <a:br>
              <a:rPr sz="3000"/>
            </a:br>
            <a:endParaRPr b="0" lang="en-US" sz="25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2214720" y="1213920"/>
            <a:ext cx="66355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Arial Unicode MS"/>
                <a:ea typeface="Arial Unicode MS"/>
              </a:rPr>
              <a:t>Семейный бюджет. Доходы и расходы.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60066"/>
                </a:solidFill>
                <a:latin typeface="Arial Unicode MS"/>
                <a:ea typeface="Arial Unicode MS"/>
              </a:rPr>
              <a:t>      </a:t>
            </a:r>
            <a:r>
              <a:rPr b="0" lang="ru-RU" sz="2800" spc="-1" strike="noStrike">
                <a:solidFill>
                  <a:srgbClr val="660066"/>
                </a:solidFill>
                <a:latin typeface="Times New Roman"/>
                <a:ea typeface="Arial Unicode MS"/>
              </a:rPr>
              <a:t>учитель математики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  <a:ea typeface="Arial Unicode MS"/>
              </a:rPr>
              <a:t>Мальцева Н.В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TextBox 4"/>
          <p:cNvSpPr/>
          <p:nvPr/>
        </p:nvSpPr>
        <p:spPr>
          <a:xfrm>
            <a:off x="4071960" y="450072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Box 5"/>
          <p:cNvSpPr/>
          <p:nvPr/>
        </p:nvSpPr>
        <p:spPr>
          <a:xfrm>
            <a:off x="4362120" y="5857920"/>
            <a:ext cx="9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21 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Прямоугольник 1"/>
          <p:cNvSpPr/>
          <p:nvPr/>
        </p:nvSpPr>
        <p:spPr>
          <a:xfrm>
            <a:off x="2601720" y="214200"/>
            <a:ext cx="516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Продовольственная корзин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Прямоугольник 2"/>
          <p:cNvSpPr/>
          <p:nvPr/>
        </p:nvSpPr>
        <p:spPr>
          <a:xfrm>
            <a:off x="2143080" y="785880"/>
            <a:ext cx="4572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хлеб;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сахар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масло;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мясо;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рыба;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молоко;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 яйцо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) картофель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) овощи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) фрук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Picture 10" descr="https://4.bp.blogspot.com/-O2LaVCAaces/XubqD2pMowI/AAAAAAAA01U/XOAqI64UOJsY0lVrSOJmaDsinQmcZ7zIwCK4BGAYYCw/s1600/%25D1%2585%25D0%25BB%25D0%25B5%25D0%25B1_%2BDoV%2B%25284%2529.png"/>
          <p:cNvPicPr/>
          <p:nvPr/>
        </p:nvPicPr>
        <p:blipFill>
          <a:blip r:embed="rId1"/>
          <a:stretch/>
        </p:blipFill>
        <p:spPr>
          <a:xfrm>
            <a:off x="6786720" y="1143000"/>
            <a:ext cx="2001600" cy="133524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8" descr="https://mikei.ru/files/gallery/106/big/3155_1501075241.jpg"/>
          <p:cNvPicPr/>
          <p:nvPr/>
        </p:nvPicPr>
        <p:blipFill>
          <a:blip r:embed="rId2"/>
          <a:stretch/>
        </p:blipFill>
        <p:spPr>
          <a:xfrm>
            <a:off x="5072040" y="1928880"/>
            <a:ext cx="1630440" cy="163044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4" descr="https://r4.mt.ru/r13/photoC7A4/20239981123-0/jpg/bp.jpeg"/>
          <p:cNvPicPr/>
          <p:nvPr/>
        </p:nvPicPr>
        <p:blipFill>
          <a:blip r:embed="rId3"/>
          <a:stretch/>
        </p:blipFill>
        <p:spPr>
          <a:xfrm>
            <a:off x="6313320" y="3268800"/>
            <a:ext cx="2830680" cy="358920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14" descr="https://clipart-best.com/img/fish/fish-clip-art-16.png"/>
          <p:cNvPicPr/>
          <p:nvPr/>
        </p:nvPicPr>
        <p:blipFill>
          <a:blip r:embed="rId4"/>
          <a:stretch/>
        </p:blipFill>
        <p:spPr>
          <a:xfrm>
            <a:off x="500040" y="5211720"/>
            <a:ext cx="2724120" cy="164628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16" descr="https://ds05.infourok.ru/uploads/ex/073c/000b03bb-2af789c7/hello_html_m139c9055.jpg"/>
          <p:cNvPicPr/>
          <p:nvPr/>
        </p:nvPicPr>
        <p:blipFill>
          <a:blip r:embed="rId5"/>
          <a:stretch/>
        </p:blipFill>
        <p:spPr>
          <a:xfrm>
            <a:off x="214200" y="2714760"/>
            <a:ext cx="2914920" cy="201456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12" descr="https://im0-tub-ru.yandex.net/i?id=c69b11583421261a1cfb7c5f5b9ec679&amp;n=13"/>
          <p:cNvPicPr/>
          <p:nvPr/>
        </p:nvPicPr>
        <p:blipFill>
          <a:blip r:embed="rId6"/>
          <a:stretch/>
        </p:blipFill>
        <p:spPr>
          <a:xfrm>
            <a:off x="214200" y="1143000"/>
            <a:ext cx="180504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1"/>
          <p:cNvSpPr/>
          <p:nvPr/>
        </p:nvSpPr>
        <p:spPr>
          <a:xfrm>
            <a:off x="357120" y="222120"/>
            <a:ext cx="8501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121"/>
                </a:solidFill>
                <a:latin typeface="Times New Roman"/>
                <a:ea typeface="Calibri"/>
              </a:rPr>
              <a:t>Доходы и расходы следует планировать. План доходов и расходов это и есть бюджет. Превышение доходов над расходами позволяет делать сбережения. Сбережения обычно хранятся в банке. Превышение расходов над доходами сокращает сбережения или приводит к образованию долг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Picture 2" descr="C:\Users\User\Desktop\img14.jpg"/>
          <p:cNvPicPr/>
          <p:nvPr/>
        </p:nvPicPr>
        <p:blipFill>
          <a:blip r:embed="rId1"/>
          <a:stretch/>
        </p:blipFill>
        <p:spPr>
          <a:xfrm>
            <a:off x="1357200" y="2143080"/>
            <a:ext cx="59295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Прямоугольник 1"/>
          <p:cNvSpPr/>
          <p:nvPr/>
        </p:nvSpPr>
        <p:spPr>
          <a:xfrm>
            <a:off x="357120" y="285840"/>
            <a:ext cx="857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может ли семья Наташи в этом месяце купить новый ноутбу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2" descr="C:\Users\User\Desktop\000909644.jpg"/>
          <p:cNvPicPr/>
          <p:nvPr/>
        </p:nvPicPr>
        <p:blipFill>
          <a:blip r:embed="rId1"/>
          <a:stretch/>
        </p:blipFill>
        <p:spPr>
          <a:xfrm>
            <a:off x="1000080" y="1285920"/>
            <a:ext cx="6858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Прямоугольник 3"/>
          <p:cNvSpPr/>
          <p:nvPr/>
        </p:nvSpPr>
        <p:spPr>
          <a:xfrm>
            <a:off x="3072600" y="214200"/>
            <a:ext cx="266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ефлекс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Рисунок 4" descr="F:\raskraska_yablonya_s_yablokami_dlya_detey_4_14185230.jpg"/>
          <p:cNvPicPr/>
          <p:nvPr/>
        </p:nvPicPr>
        <p:blipFill>
          <a:blip r:embed="rId1"/>
          <a:stretch/>
        </p:blipFill>
        <p:spPr>
          <a:xfrm>
            <a:off x="2000160" y="1071720"/>
            <a:ext cx="457200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1"/>
          <p:cNvSpPr/>
          <p:nvPr/>
        </p:nvSpPr>
        <p:spPr>
          <a:xfrm>
            <a:off x="285840" y="578520"/>
            <a:ext cx="8358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rial"/>
                <a:ea typeface="Times New Roman"/>
              </a:rPr>
              <a:t>«Если хочешь быть богатым, нужно быть финансово грамотным.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Прямоугольник 2"/>
          <p:cNvSpPr/>
          <p:nvPr/>
        </p:nvSpPr>
        <p:spPr>
          <a:xfrm>
            <a:off x="5869440" y="2000160"/>
            <a:ext cx="313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Calibri"/>
                <a:ea typeface="Times New Roman"/>
              </a:rPr>
              <a:t>Роберт Кийоса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Picture 4" descr="https://demotivation.ru/wp-content/uploads/2020/05/s1200-5-59.jpg"/>
          <p:cNvPicPr/>
          <p:nvPr/>
        </p:nvPicPr>
        <p:blipFill>
          <a:blip r:embed="rId1"/>
          <a:stretch/>
        </p:blipFill>
        <p:spPr>
          <a:xfrm>
            <a:off x="285840" y="178596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Прямоугольник 2" descr=""/>
          <p:cNvPicPr/>
          <p:nvPr/>
        </p:nvPicPr>
        <p:blipFill>
          <a:blip r:embed="rId1"/>
          <a:stretch/>
        </p:blipFill>
        <p:spPr>
          <a:xfrm>
            <a:off x="-407880" y="1481040"/>
            <a:ext cx="9905760" cy="15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1" descr="C:\Users\User\Desktop\f8e944774c.jpg"/>
          <p:cNvPicPr/>
          <p:nvPr/>
        </p:nvPicPr>
        <p:blipFill>
          <a:blip r:embed="rId1"/>
          <a:stretch/>
        </p:blipFill>
        <p:spPr>
          <a:xfrm>
            <a:off x="1857240" y="428760"/>
            <a:ext cx="666756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1"/>
          <p:cNvSpPr/>
          <p:nvPr/>
        </p:nvSpPr>
        <p:spPr>
          <a:xfrm>
            <a:off x="0" y="371520"/>
            <a:ext cx="8929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212121"/>
                </a:solidFill>
                <a:latin typeface="Calibri"/>
                <a:ea typeface="Times New Roman"/>
              </a:rPr>
              <a:t>«Нажить много денег – храбрость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212121"/>
                </a:solidFill>
                <a:latin typeface="Calibri"/>
                <a:ea typeface="Times New Roman"/>
              </a:rPr>
              <a:t>сохранить их – мудрость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212121"/>
                </a:solidFill>
                <a:latin typeface="Calibri"/>
                <a:ea typeface="Times New Roman"/>
              </a:rPr>
              <a:t> </a:t>
            </a:r>
            <a:r>
              <a:rPr b="0" i="1" lang="ru-RU" sz="4000" spc="-1" strike="noStrike">
                <a:solidFill>
                  <a:srgbClr val="212121"/>
                </a:solidFill>
                <a:latin typeface="Calibri"/>
                <a:ea typeface="Times New Roman"/>
              </a:rPr>
              <a:t>а умело расходовать – искусство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212121"/>
                </a:solidFill>
                <a:latin typeface="Calibri"/>
                <a:ea typeface="Times New Roman"/>
              </a:rPr>
              <a:t>                                                                                                       </a:t>
            </a:r>
            <a:r>
              <a:rPr b="0" i="1" lang="ru-RU" sz="4000" spc="-1" strike="noStrike">
                <a:solidFill>
                  <a:srgbClr val="212121"/>
                </a:solidFill>
                <a:latin typeface="Calibri"/>
                <a:ea typeface="Times New Roman"/>
              </a:rPr>
              <a:t>Бертольза Аверб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Picture 2" descr="C:\Users\User\Desktop\depositphotos_149312412-stock-illustration-cartoon-business-people-earning-money.jpg"/>
          <p:cNvPicPr/>
          <p:nvPr/>
        </p:nvPicPr>
        <p:blipFill>
          <a:blip r:embed="rId1"/>
          <a:stretch/>
        </p:blipFill>
        <p:spPr>
          <a:xfrm>
            <a:off x="2500200" y="3571920"/>
            <a:ext cx="35737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3"/>
          <p:cNvSpPr/>
          <p:nvPr/>
        </p:nvSpPr>
        <p:spPr>
          <a:xfrm>
            <a:off x="598320" y="448920"/>
            <a:ext cx="599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12121"/>
                </a:solidFill>
                <a:latin typeface="Calibri"/>
                <a:ea typeface="Times New Roman"/>
              </a:rPr>
              <a:t>«Разговор мамы с маленьким сыном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2121"/>
                </a:solidFill>
                <a:latin typeface="Calibri"/>
                <a:ea typeface="Times New Roman"/>
              </a:rPr>
              <a:t>-</a:t>
            </a:r>
            <a:r>
              <a:rPr b="0" lang="ru-RU" sz="2800" spc="-1" strike="noStrike">
                <a:solidFill>
                  <a:srgbClr val="212121"/>
                </a:solidFill>
                <a:latin typeface="Calibri"/>
                <a:ea typeface="Times New Roman"/>
              </a:rPr>
              <a:t> Отправляюсь в магази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12121"/>
                </a:solidFill>
                <a:latin typeface="Calibri"/>
                <a:ea typeface="Times New Roman"/>
              </a:rPr>
              <a:t>Что купить тебе, сыно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12121"/>
                </a:solidFill>
                <a:latin typeface="Calibri"/>
                <a:ea typeface="Times New Roman"/>
              </a:rPr>
              <a:t>Отвечает маме сы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12121"/>
                </a:solidFill>
                <a:latin typeface="Calibri"/>
                <a:ea typeface="Times New Roman"/>
              </a:rPr>
              <a:t> </a:t>
            </a:r>
            <a:r>
              <a:rPr b="1" lang="ru-RU" sz="2800" spc="-1" strike="noStrike">
                <a:solidFill>
                  <a:srgbClr val="212121"/>
                </a:solidFill>
                <a:latin typeface="Calibri"/>
                <a:ea typeface="Times New Roman"/>
              </a:rPr>
              <a:t>-</a:t>
            </a:r>
            <a:r>
              <a:rPr b="0" lang="ru-RU" sz="2800" spc="-1" strike="noStrike">
                <a:solidFill>
                  <a:srgbClr val="212121"/>
                </a:solidFill>
                <a:latin typeface="Calibri"/>
                <a:ea typeface="Times New Roman"/>
              </a:rPr>
              <a:t> Ты купи мне самолё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12121"/>
                </a:solidFill>
                <a:latin typeface="Calibri"/>
                <a:ea typeface="Times New Roman"/>
              </a:rPr>
              <a:t>А ещё ружьё, лопатку,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12121"/>
                </a:solidFill>
                <a:latin typeface="Calibri"/>
                <a:ea typeface="Times New Roman"/>
              </a:rPr>
              <a:t> </a:t>
            </a:r>
            <a:r>
              <a:rPr b="0" lang="ru-RU" sz="2800" spc="-1" strike="noStrike">
                <a:solidFill>
                  <a:srgbClr val="212121"/>
                </a:solidFill>
                <a:latin typeface="Calibri"/>
                <a:ea typeface="Times New Roman"/>
              </a:rPr>
              <a:t>танк, лошадку, шоколадк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12121"/>
                </a:solidFill>
                <a:latin typeface="Calibri"/>
                <a:ea typeface="Times New Roman"/>
              </a:rPr>
              <a:t>Самосвал, тетради, краск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12121"/>
                </a:solidFill>
                <a:latin typeface="Calibri"/>
                <a:ea typeface="Times New Roman"/>
              </a:rPr>
              <a:t>маску, сказки и салазк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12121"/>
                </a:solidFill>
                <a:latin typeface="Calibri"/>
                <a:ea typeface="Times New Roman"/>
              </a:rPr>
              <a:t>Постарайся не забы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5" descr="https://www.pngitem.com/pimgs/m/293-2931865_famlia-pai-children-kids-illustration-alter-preschool-cartoon.png"/>
          <p:cNvPicPr/>
          <p:nvPr/>
        </p:nvPicPr>
        <p:blipFill>
          <a:blip r:embed="rId1"/>
          <a:stretch/>
        </p:blipFill>
        <p:spPr>
          <a:xfrm>
            <a:off x="5857920" y="3675240"/>
            <a:ext cx="3286080" cy="318276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7" descr="https://avatars.mds.yandex.net/get-zen_doc/51478/pub_5d3856aa43bee300b068be3d_5d3862d1f73d9d00ae265c71/scale_1200"/>
          <p:cNvPicPr/>
          <p:nvPr/>
        </p:nvPicPr>
        <p:blipFill>
          <a:blip r:embed="rId2"/>
          <a:stretch/>
        </p:blipFill>
        <p:spPr>
          <a:xfrm>
            <a:off x="4786200" y="928800"/>
            <a:ext cx="41436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Picture 3" descr="C:\Users\User\Desktop\0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Прямоугольник 1"/>
          <p:cNvSpPr/>
          <p:nvPr/>
        </p:nvSpPr>
        <p:spPr>
          <a:xfrm>
            <a:off x="214200" y="214200"/>
            <a:ext cx="5500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таша хочет новый ноутбук, который стоит 37.000 рублей,   и родители предложили ей вести учет доходов и расходов семьи, чтобы рассчитать возможность данного приобрет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Picture 2" descr="https://on-desktop.com/wps/2020Girls___Beautyful_Girls_Smiling_girl_with_laptop_on_a_white_background_144977_.jpg"/>
          <p:cNvPicPr/>
          <p:nvPr/>
        </p:nvPicPr>
        <p:blipFill>
          <a:blip r:embed="rId1"/>
          <a:stretch/>
        </p:blipFill>
        <p:spPr>
          <a:xfrm>
            <a:off x="5857920" y="214200"/>
            <a:ext cx="3071880" cy="2048040"/>
          </a:xfrm>
          <a:prstGeom prst="rect">
            <a:avLst/>
          </a:prstGeom>
          <a:ln w="0">
            <a:noFill/>
          </a:ln>
        </p:spPr>
      </p:pic>
      <p:sp>
        <p:nvSpPr>
          <p:cNvPr id="627" name="Прямоугольник 5"/>
          <p:cNvSpPr/>
          <p:nvPr/>
        </p:nvSpPr>
        <p:spPr>
          <a:xfrm>
            <a:off x="1500120" y="2333520"/>
            <a:ext cx="7643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зарплата папы – 45 000 рубл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рплата мамы – 32 000 рубл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рнет – 450 рубле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нсия бабушки – 13800 рубле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енсия дедушки -18500 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типендия сестры – 3850 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петитор по английскому языку – 8 400руб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кольные обеды – 2000 рубл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нзин – 5000 рубле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рм собаке - 2500 рубл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оплата, от сдачи в аренду – 4500 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роценты на вклад,– 1850 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Прямоугольник 1"/>
          <p:cNvSpPr/>
          <p:nvPr/>
        </p:nvSpPr>
        <p:spPr>
          <a:xfrm>
            <a:off x="285840" y="285840"/>
            <a:ext cx="86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дание 1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Посчитайте доход семьи и занесите данные   в таблиц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9" name=""/>
          <p:cNvGraphicFramePr/>
          <p:nvPr/>
        </p:nvGraphicFramePr>
        <p:xfrm>
          <a:off x="357120" y="2143080"/>
          <a:ext cx="8429760" cy="4143600"/>
        </p:xfrm>
        <a:graphic>
          <a:graphicData uri="http://schemas.openxmlformats.org/drawingml/2006/table">
            <a:tbl>
              <a:tblPr/>
              <a:tblGrid>
                <a:gridCol w="2772000"/>
                <a:gridCol w="1434960"/>
                <a:gridCol w="2684520"/>
                <a:gridCol w="1538280"/>
              </a:tblGrid>
              <a:tr h="1071720">
                <a:tc>
                  <a:txBody>
                    <a:bodyPr lIns="4932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, руб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, руб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71360">
                <a:tc>
                  <a:txBody>
                    <a:bodyPr lIns="49320" rIns="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0080">
                <a:tc>
                  <a:txBody>
                    <a:bodyPr lIns="49320" rIns="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0440">
                <a:tc>
                  <a:txBody>
                    <a:bodyPr lIns="49320" rIns="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30" name="Rectangle 1"/>
          <p:cNvSpPr/>
          <p:nvPr/>
        </p:nvSpPr>
        <p:spPr>
          <a:xfrm>
            <a:off x="3494880" y="-720"/>
            <a:ext cx="215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Месячный бюджет семь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Прямоугольник 4"/>
          <p:cNvSpPr/>
          <p:nvPr/>
        </p:nvSpPr>
        <p:spPr>
          <a:xfrm>
            <a:off x="2435400" y="1428840"/>
            <a:ext cx="316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ячный бюджет семь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2" name=""/>
          <p:cNvGraphicFramePr/>
          <p:nvPr/>
        </p:nvGraphicFramePr>
        <p:xfrm>
          <a:off x="571680" y="2357280"/>
          <a:ext cx="8143560" cy="3787920"/>
        </p:xfrm>
        <a:graphic>
          <a:graphicData uri="http://schemas.openxmlformats.org/drawingml/2006/table">
            <a:tbl>
              <a:tblPr/>
              <a:tblGrid>
                <a:gridCol w="4071600"/>
                <a:gridCol w="4071960"/>
              </a:tblGrid>
              <a:tr h="689040">
                <a:tc gridSpan="2"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рифы на воду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2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требление во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имость 1 м</a:t>
                      </a:r>
                      <a:r>
                        <a:rPr b="1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86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лодная в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04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ячая в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04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оотвед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3" name="Rectangle 1"/>
          <p:cNvSpPr/>
          <p:nvPr/>
        </p:nvSpPr>
        <p:spPr>
          <a:xfrm>
            <a:off x="285840" y="578160"/>
            <a:ext cx="857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2121"/>
                </a:solidFill>
                <a:latin typeface="Times New Roman"/>
                <a:ea typeface="Calibri"/>
              </a:rPr>
              <a:t>Задание 2.</a:t>
            </a:r>
            <a:r>
              <a:rPr b="0" lang="ru-RU" sz="2400" spc="-1" strike="noStrike">
                <a:solidFill>
                  <a:srgbClr val="212121"/>
                </a:solidFill>
                <a:latin typeface="Times New Roman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этом месяце  семья израсходовала 11 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холодной и 7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горячей воды. Сколь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ужно заплатить за в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cture 2" descr="http://i.mycdn.me/i?r=AzEPZsRbOZEKgBhR0XGMT1Rk-Ip_ibGylKChqThsXBsK7aaKTM5SRkZCeTgDn6uOyic"/>
          <p:cNvPicPr/>
          <p:nvPr/>
        </p:nvPicPr>
        <p:blipFill>
          <a:blip r:embed="rId1"/>
          <a:stretch/>
        </p:blipFill>
        <p:spPr>
          <a:xfrm>
            <a:off x="7286760" y="214200"/>
            <a:ext cx="152712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3"/>
          <p:cNvSpPr/>
          <p:nvPr/>
        </p:nvSpPr>
        <p:spPr>
          <a:xfrm>
            <a:off x="214200" y="295560"/>
            <a:ext cx="835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2121"/>
                </a:solidFill>
                <a:latin typeface="Times New Roman"/>
                <a:ea typeface="Calibri"/>
              </a:rPr>
              <a:t>Задание 3.</a:t>
            </a:r>
            <a:r>
              <a:rPr b="0" lang="ru-RU" sz="2400" spc="-1" strike="noStrike">
                <a:solidFill>
                  <a:srgbClr val="212121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 киловатт-час электроэнерг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оит 3р 50 коп.. Счетчик электроэнерг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 февраля показывал 12628 киловатт-час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а 1 марта показывал 12805 киловатт-ча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колько рублей нужно заплатить 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электроэнергию за февраль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Picture 5" descr="https://ec70.ru/wp-content/uploads/kak-samostoyatelno-proverit-elektroschetchik.jpg"/>
          <p:cNvPicPr/>
          <p:nvPr/>
        </p:nvPicPr>
        <p:blipFill>
          <a:blip r:embed="rId1"/>
          <a:stretch/>
        </p:blipFill>
        <p:spPr>
          <a:xfrm>
            <a:off x="2143080" y="2643120"/>
            <a:ext cx="3770280" cy="352440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4" descr="https://img2.freepng.ru/20180419/wow/kisspng-incandescent-light-bulb-drawing-clip-art-cartoon-light-bulb-5ad8d160efb1f8.9827520115241588169818.jpg"/>
          <p:cNvPicPr/>
          <p:nvPr/>
        </p:nvPicPr>
        <p:blipFill>
          <a:blip r:embed="rId2"/>
          <a:stretch/>
        </p:blipFill>
        <p:spPr>
          <a:xfrm>
            <a:off x="6500880" y="285840"/>
            <a:ext cx="2251080" cy="23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3T14:00:58Z</dcterms:created>
  <dc:creator>User</dc:creator>
  <dc:description/>
  <dc:language>en-US</dc:language>
  <cp:lastModifiedBy>User</cp:lastModifiedBy>
  <dcterms:modified xsi:type="dcterms:W3CDTF">2021-04-02T16:35:47Z</dcterms:modified>
  <cp:revision>12</cp:revision>
  <dc:subject/>
  <dc:title>Слайд 1</dc:title>
</cp:coreProperties>
</file>